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0B0-86F7-491D-A4AC-49C37034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692-8E15-405E-955B-14B3B456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3A11-AE8F-4BCC-BC50-B8721A22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F2A-9B59-4FCD-A3C1-7BF533A2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8688-0BED-4983-812F-3E5E4BF9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2FA5-037A-4F96-8C16-4B475042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8856-FD08-46DB-864E-391F45D3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A1DE-92E7-4DEF-8854-05215461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DFEF-4D3D-4B9F-A89B-1E87DA0F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CFFB-4D56-4AAE-B17B-B2D1F8EB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1817-1528-4105-B747-97A30322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CE3-09EE-4729-9DF9-387FBAB2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9F04-265F-434B-8A2D-605B68AD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6E21-1150-4CA0-AD8A-C220F428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C70C-6C81-4E34-B463-DE447196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5AE0-2CE0-4E6D-9C70-925AD72D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9DE1-F994-4A06-8542-0FDFCE34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7EB60-B770-493D-931C-F8D62BEB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F7942-6827-4621-808F-78B4F157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9B0CC-739C-43CF-8B40-DBC375A6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F08B3-511C-4FFA-B5FC-EFCC23BA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CB87A-2E67-4918-A3C8-4742FCC7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68B-BBE1-4CCD-9412-CBB7BBDA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BF41D-60EA-49A3-B6B0-CA46A84D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7BC4B-45E4-4318-A427-B7236057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031C7-6D2F-48EE-AD1B-9D2790A0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38242-2685-48AD-98C8-B17BDF13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01AC6-4056-4A20-B8DD-FBBB0160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14518-5BE0-4F44-82CF-5B4C93B6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0E621-290D-4125-A3C5-3FF76F000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6D938-4F5C-4531-8B96-E87A4034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A36B0-460B-4115-A8EC-EE5E0A79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D32A6-F218-4119-AA70-4376103C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095-4CAE-4AEA-9ABC-B4585C1D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5D64C-20F8-4D03-822A-26F15C85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A3AA1-36BB-46F7-913D-9B3EA654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5016F-0952-4D3B-A9EB-BB125E95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C6F78-1684-4DF3-BC46-58EC74A4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D84DD-128D-4E5A-A92E-3A8FE0F3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67820-18BB-4E4C-8929-62AE564B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32000-7EA5-4D6D-A106-F298FF16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74E35-CAB5-4E83-AD7E-207CA6C4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5DAF0-6F07-445A-9E8E-793AC842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84C6D-7CF6-431B-90D9-9CD1F8C3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0DB-67CE-48F5-A7FA-715D88A9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E29FA-3E1E-4161-AABF-817D752F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172C9-4F78-41DF-9E3D-6826F4E4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D0EB7-EAFD-40A2-964B-6DF72E15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D8C2C-C67F-4AB5-85D5-D5E142CF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05FD3-957C-46D7-849E-E3A2D760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A564E-218A-4522-B74B-7943D2D3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667D9-5645-4A03-80DE-F319B87B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04F2C-6342-4168-899F-0C7AECF3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CF2CA-19B8-48F2-9587-2857064C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DA8FE-2091-43FA-BED7-D3D78488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133-34FD-41EE-84D7-9B73743A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2C85E-2735-4B59-8CF3-230ACE88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A3AEB-8B7D-45E3-A40B-3B6B8A05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9C98F-9823-4411-939A-1B7E93CF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A2076-DE10-42CA-B105-8C548F86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9504F-BCB7-46E6-BE5E-C59AC11A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C4162-CF7F-4783-B93E-D233EAD8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95F53-3EF7-4C03-B6D5-878BF274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F3C21-DEAD-41F3-B64D-58F61B75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5F032-A15F-42F7-83C3-315C69C7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76371-036F-4035-B387-5A6E7E43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E0B-8CD9-4512-B931-975C9C43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9AB63-1551-4599-82C3-375FA4F6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CDD71-32D9-4EA1-B790-249CCF86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84460-CBE7-42AB-B409-25F99FC4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593-3355-4C47-A0E4-21AAFFBD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20B-8ED0-4466-B844-58A1D9F0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b89"/>
            </a:gs>
            <a:gs pos="100000">
              <a:srgbClr val="dedbd7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411A-8739-4386-B6DA-A574EBE7649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b89"/>
            </a:gs>
            <a:gs pos="100000">
              <a:srgbClr val="dedbd7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10FE-BB98-4927-9531-42209D408BD1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b89"/>
            </a:gs>
            <a:gs pos="100000">
              <a:srgbClr val="dedbd7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E01E-D44D-46F8-9C8B-E304B21A779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b89"/>
            </a:gs>
            <a:gs pos="100000">
              <a:srgbClr val="dedbd7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E5F8-1EB9-4110-9D0C-1184F8716C2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b89"/>
            </a:gs>
            <a:gs pos="100000">
              <a:srgbClr val="dedbd7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8F73-505D-407F-9CA8-FC03C738709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b89"/>
            </a:gs>
            <a:gs pos="100000">
              <a:srgbClr val="dedbd7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75A6-0CD0-4AB6-9024-310FB7A0F99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16" descr=""/>
          <p:cNvPicPr/>
          <p:nvPr/>
        </p:nvPicPr>
        <p:blipFill>
          <a:blip r:embed="rId1"/>
          <a:stretch/>
        </p:blipFill>
        <p:spPr>
          <a:xfrm>
            <a:off x="463680" y="1158840"/>
            <a:ext cx="8265960" cy="43340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151B-78A8-4F55-ABB3-D33AE9C89EA1}" type="slidenum">
              <a:rPr b="0" lang="en-US" sz="1000" spc="-1" strike="noStrike">
                <a:solidFill>
                  <a:srgbClr val="29292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reation of HU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y Gift from Non-membe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255680" indent="-396720">
              <a:spcBef>
                <a:spcPts val="162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cleus should exist – property created by gi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255680" indent="-396720">
              <a:spcBef>
                <a:spcPts val="162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ntion of donor, documentation, receiver’s stat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17B2-251B-4A86-8DC8-9352F243199D}" type="slidenum">
              <a:rPr b="0" lang="en-US" sz="1000" spc="-1" strike="noStrike">
                <a:solidFill>
                  <a:srgbClr val="29292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y Partition of Pre-Existing HUF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392120" indent="-533160">
              <a:spcBef>
                <a:spcPts val="162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al Partition: Partial as to members and/or as to proper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392120" indent="-533160">
              <a:spcBef>
                <a:spcPts val="162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Partition: Nothing left in HU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392120" indent="-533160">
              <a:spcBef>
                <a:spcPts val="162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equal partition is possib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392120" indent="-533160">
              <a:spcBef>
                <a:spcPts val="162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is entitled to enforce parti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392120" indent="-533160">
              <a:spcBef>
                <a:spcPts val="162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is entitled to how much share upon parti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392120" indent="-533160">
              <a:spcBef>
                <a:spcPts val="162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e of property on partition in hands of receiv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CA32-BDA0-429E-B7D6-F42F71F79834}" type="slidenum">
              <a:rPr b="0" lang="en-US" sz="1000" spc="-1" strike="noStrike">
                <a:solidFill>
                  <a:srgbClr val="29292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304560"/>
            <a:ext cx="8229600" cy="64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y Will  (of any person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392120" indent="-533160">
              <a:spcBef>
                <a:spcPts val="162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wn HU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392120" indent="-533160">
              <a:spcBef>
                <a:spcPts val="162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HUF of oth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392120" indent="-533160">
              <a:spcBef>
                <a:spcPts val="20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future HUF of unmarried 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y Reun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392120" indent="-533160">
              <a:spcBef>
                <a:spcPts val="162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previously partitioned HU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392120" indent="-533160">
              <a:spcBef>
                <a:spcPts val="162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members who were partitioned need not necessarily reuni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392120" indent="-533160">
              <a:spcBef>
                <a:spcPts val="162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those who reunite must bring back all properties received on earlier par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A6D2-5918-4E62-A84C-ECE0A21B03ED}" type="slidenum">
              <a:rPr b="0" lang="en-US" sz="1000" spc="-1" strike="noStrike">
                <a:solidFill>
                  <a:srgbClr val="29292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304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y Joint Labou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62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mily of craftsmen, joint activity and creation of joint incom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49F1-002C-4771-A503-956AC064C27E}" type="slidenum">
              <a:rPr b="0" lang="en-US" sz="1000" spc="-1" strike="noStrike">
                <a:solidFill>
                  <a:srgbClr val="29292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2971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DCF9-D673-45E3-B8B9-448E21339155}" type="slidenum">
              <a:rPr b="0" lang="en-US" sz="1000" spc="-1" strike="noStrike">
                <a:solidFill>
                  <a:srgbClr val="29292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6" descr="http://img.jagoinvestor.com/ji/HU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5"/>
          <p:cNvSpPr/>
          <p:nvPr/>
        </p:nvSpPr>
        <p:spPr>
          <a:xfrm>
            <a:off x="1905120" y="5257800"/>
            <a:ext cx="563868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w Cen MT"/>
                <a:ea typeface="Arial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Tw Cen MT"/>
                <a:ea typeface="Arial"/>
              </a:rPr>
              <a:t>HUF is not created, only its kitty is filled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w Cen MT Condensed"/>
                <a:ea typeface="Arial"/>
              </a:rPr>
              <a:t>(Only Assets are provided to it by gift or otherwis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reation of Assets of HUF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indu male with his sons and grandsons constitutes an HUF but this HUF need not own any property. {A situation where the family has not inherited any propert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oday’s India there are large number of men who are entirely self-made, in trade, in industry, in profession and in services. Yet, they constitute a joint family not only with their children, but very often with their broth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reation of Assets of HUF…pivotal question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The assets acquired by different income earning members in practice and in law, belonged either to the bigger family of brothers or the smaller family constituted with their childre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But the income from these assets, was invariably clubbed with their individual income and subjected to tax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A question, therefore, arises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How the families consisting of a father and his sons, or of brothers, and the like, can acquire assets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just">
              <a:lnSpc>
                <a:spcPct val="15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roperties of HUF can be acquired by joint labour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int Labour: HUF property (movable and immovable) can be acquired under Mitakshara by joint labour of the coparceners and this can be utilised as a source of creating HUF property or nucleus of a branch of HU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int Family funds: Even though some (or one) of the members had put in their labour and skill for earning the income, then the property will be joint family proper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Vesting of self-acquired property in family hotchpo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UF assets can be created by vesting of self-acquired property in the family hotchpot even where the family kitty is emp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us assets of a main family or branch of the family are created by a Karta or another coparcener throwing his self-acquired property into the hotchpot of the family or branch of the family to which they belong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re is nothing in Hindu Law which prevents a Hindu male from throwing his self-acquired property in the hotchpot of the smaller unit to which he belongs while the larger unit remains intac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reation of new HUFs through partition of an existing HUF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ition of an HUF by dividing its assets among its coparceners and members is a recognised method of creating a number of smaller HUFs and thereby distributing its income into a number of units which bear tax at a lower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thus a useful tool in tax pl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artition strategy can therefore be usefully adopted to create smaller HUF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reation of HUF through reunion after total partitio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circumstances of the family require partial partition while others remain joint and continue to carry on the business of the main HUF, the members can first have a total partition dividing all the family assets and liabilities amongst smaller HUFs and claim a total partition under section 171 before the 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ITO will enquire and pass an order u/s. 171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just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or more smaller HUFs so formed can then reun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reation of HUF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in God’s hands, what we can do is to create HUF property once there is a family nucleus. Modes of creation of HUF property a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y Blend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255680" indent="-396720" algn="just">
              <a:spcBef>
                <a:spcPts val="1624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self acquired property into HUF property by conduct/ declaration of members of HU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B5B3-ECB4-42BD-8EB2-A421684E516E}" type="slidenum">
              <a:rPr b="0" lang="en-US" sz="1000" spc="-1" strike="noStrike">
                <a:solidFill>
                  <a:srgbClr val="29292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Windows User</cp:lastModifiedBy>
  <dcterms:modified xsi:type="dcterms:W3CDTF">2014-08-18T08:41:42Z</dcterms:modified>
  <cp:revision>2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