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13A-6988-45EA-BC9B-3137C276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B6E-FD05-4489-9993-6C08C34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6B6-45B6-40C6-A3BF-50026B02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819-B4F2-4A60-9198-F1376C8A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A80-5AF3-4E0D-BBC2-F992A6F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A9F-0509-4160-AA86-8EAA3C6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A61-0E02-44C0-A894-97F52DA2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ADA-6BF3-4BAC-A26B-87674A9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32E-94F6-4811-8FCC-E87E52E3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854-FD41-4B39-8E29-AE8D0991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885-A605-45B5-8C80-8B19296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431-2DD9-465A-8438-3ACEF67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.A. Uday K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025A-9736-410C-B161-2324BFA3C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.A. Uday K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FE72-E821-4BD2-913C-12C524FB8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" y="152280"/>
            <a:ext cx="8915400" cy="63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Some of the imp. provisions of B. R. Act are as follows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. 56 of B.R. Act:- Applicability of other sections for co-operative banks is as modified by Sec. 5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6:-    Forms of business a co-op bank may engag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pecified herein. Central Govt. can no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ctivities. “Hire Purchase” &amp; “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ing”, insurance etc are not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8:-    Undertaking of trading activity in good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ed. But business specified u/s 6(1)(o) all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in gold co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9:-    Prohibition for holding any immovable proper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one which is required for it’s own us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07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.A. Uday K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754C-1279-4AC0-8FB0-A6EBE0865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320" y="309600"/>
            <a:ext cx="883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14A:-No floating charge can be created by co-op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it’s property unless certified by RBI as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rimental to the interest of depos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18:-  Maintenance of C.R.R. which is at present 04%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bank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4.75%, 4.50%, 4.25%, &amp; 4% in the year 2012-20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t on this as per RBI Act. For other UCBs it is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03% . Scheduled co  op. banks’ CRR Governed b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42(1) of RBI 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19:- Bar on holding of shares in any other co-op. society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/ cr. Co-op. bank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.A. Uday K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C10B-2765-4E84-8A93-1C7E983A5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6"/>
          <p:cNvSpPr/>
          <p:nvPr/>
        </p:nvSpPr>
        <p:spPr>
          <a:xfrm>
            <a:off x="152280" y="228600"/>
            <a:ext cx="876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20:-   No loans against the security of own shares. No unsec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s/ advances to director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20A:-No remission of debts due to the co-op ban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payable by present/ past direct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pproval of RBI. Also applies to firm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. in which they are partners/ director &amp;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s where they are guaran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24:-  Maintenance of S.L.R. of not less than 25% of i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DTL. RBI can extend this upto 40%. It is presently 2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R must be kept in approved secur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.A. Uday K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3C4-DC72-4794-B7BD-4C41DF07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5335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29 :- P &amp; L A/c , Balance Sheet in the forms set out in Th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. To be signed by P.O. &amp; min. 03 dir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31:-  Submission of final a/cs along with audit repo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ory auditor before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 &amp; it’s 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local newspaper by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y Karve</cp:lastModifiedBy>
  <dcterms:modified xsi:type="dcterms:W3CDTF">2013-06-21T09:22:06Z</dcterms:modified>
  <cp:revision>349</cp:revision>
  <dc:subject/>
  <dc:title>PowerPoint Presentation</dc:title>
</cp:coreProperties>
</file>