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144A-7014-46F3-913D-E4B44638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9823-8916-4F37-B005-36BCDF15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939-22E5-40BE-B298-8A94C32A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D2A3-1C84-448C-B96E-BDC55BF7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4044-1785-4C93-ABC0-A3273F8C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9248-B738-4498-BD0B-40FBAE17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F96F-16A7-4031-9FE7-ED078610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0C5D-0B71-4771-A925-8F8CC346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20FE-593D-449C-952A-81193D1A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4C4E-EBE6-40DB-93AC-3C1CE94B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C836-5481-4234-A321-4D4C395F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0B5E-4BD8-4AEE-9EAE-E77DC549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519F-770A-4D77-82EB-F52FACCBC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FSI &amp; Capital Market Round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AI Towers BK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gust 04, 20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811080" y="838080"/>
            <a:ext cx="752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And No tax payments are not lower – in fact they are hig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53341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789840" y="838080"/>
            <a:ext cx="56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Mystery explained – Deferral of Tax benef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53341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900360" y="838080"/>
            <a:ext cx="75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Advantage of Debt Fund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Partial liquidity without loss of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Excellent Liquid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Safety equivalent to Bank 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Disadvant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Interest rate risk vis-à-vis Bank FD for the 3 year peri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Credit risk can be minimised by selecting appropriate A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rated fu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2666880" y="2895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ank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1295280" y="-7632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ase Stu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"/>
          <p:cNvSpPr/>
          <p:nvPr/>
        </p:nvSpPr>
        <p:spPr>
          <a:xfrm>
            <a:off x="365040" y="871560"/>
            <a:ext cx="8474040" cy="529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alibri"/>
                <a:ea typeface="Calibri"/>
              </a:rPr>
              <a:t>Sujay (65 years) is a retired senior citizen with pension income such that all income other than pension is exigible to maximum tax rate (31.2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e has a sizeable kitty with him from which he wishes to generate Rs. 3 lakhs per annum net of tax. The Rs. 3 Lakhs needs to increase by 6% every ye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isk profile – Only AAA rated fixed income Secur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principal amount can be consumed during this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turn assumption pre-tax - 7% p.a. His estimates suggest he will need to invest Rs. 67 lakhs in a Bank 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e has approached you to explore a better but equally safe altern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33640" y="685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2221920" y="68256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Fixed Deposit amount Needed – Rs. 66,89,6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1928880" y="1474920"/>
            <a:ext cx="6072120" cy="46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533520" y="1017720"/>
            <a:ext cx="8153280" cy="53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  <a:ea typeface="Calibri"/>
              </a:rPr>
              <a:t>A better Solution can b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  <a:ea typeface="Calibri"/>
              </a:rPr>
              <a:t>AAA rated Banking &amp; PSU debt Fund – returns similar to a Fixed Depos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  <a:ea typeface="Calibri"/>
              </a:rPr>
              <a:t>Amounts can be withdrawn from the Fund every y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  <a:ea typeface="Calibri"/>
              </a:rPr>
              <a:t>Major benefit will be lower tax cost assuming indexation benefit @4.50% p.a. and long term capital gains tax at 20.8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  <a:ea typeface="Calibri"/>
              </a:rPr>
              <a:t>Assuming same return at 7% the amount required for a mutual fund will be Rs. 57,36,627 versus Rs. 66,89,683 required in a fixed deposit (upfront saving of 14% in Corpus requir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  <a:ea typeface="Calibri"/>
              </a:rPr>
              <a:t>Calculation for Debt fund on next sl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380880" y="838080"/>
            <a:ext cx="8305920" cy="48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en-IN" sz="2400" spc="-1" strike="noStrike">
                <a:solidFill>
                  <a:srgbClr val="000000"/>
                </a:solidFill>
                <a:latin typeface="Calibri"/>
                <a:ea typeface="Calibri"/>
              </a:rPr>
              <a:t>Total Debt Funds Required – Rs. 57,36,6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629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784440" y="914400"/>
            <a:ext cx="58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The savings come from lower tax payments 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600200" y="1636560"/>
            <a:ext cx="5638680" cy="41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1506600" y="1143000"/>
            <a:ext cx="7602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But lower tax rates themselves come from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Lower Capital Gains tax rate @ 20.80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Indexation benef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Any other reason ??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If there is no other reason for the tax benefi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If we assume Nil indexation benefit &amp; LTCG tax at 31.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both options should be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Is that True or No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Let’s see on next slid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380880" y="838080"/>
            <a:ext cx="8305920" cy="48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ixed Deposit requirement stays same at Rs. 66,89,68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928880" y="1474920"/>
            <a:ext cx="528624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891720" y="685800"/>
            <a:ext cx="736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But Debt fund requirement remains lower at Rs. 63,66,9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5% lower than Fixed depos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219320" y="1528920"/>
            <a:ext cx="655308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0:22:02Z</dcterms:created>
  <dc:creator>Navneet K</dc:creator>
  <dc:description/>
  <dc:language>en-US</dc:language>
  <cp:lastModifiedBy>Harsh Roongta</cp:lastModifiedBy>
  <dcterms:modified xsi:type="dcterms:W3CDTF">2018-08-03T09:16:19Z</dcterms:modified>
  <cp:revision>2114</cp:revision>
  <dc:subject/>
  <dc:title>PowerPoint Presentation</dc:title>
</cp:coreProperties>
</file>